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546-682F-447A-BB13-797664D6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C9F-A141-4E2E-82A2-02DBBE72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1DF-D929-490D-ADA3-3BB927C8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8DC-D04E-421A-AEFB-3677864A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6B6-CA66-42AF-9E93-51B21544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A75-1BA8-499D-9310-A4EF0BA1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7EC-4C4C-4B04-8C88-4EF7D660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C5E-06E2-4689-A3F4-AA545BAE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9BE-D469-4A68-9129-09E8E147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654-ECB0-4AC8-B0EF-CE2E4E8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178-8548-4DEF-81CE-1EFE64D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6CB-A68F-48B2-BEDB-6C4DAD1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2D5C-AE1E-4928-B841-5185B75A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ture of V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907920"/>
            <a:ext cx="70563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s an A to N, which is generally limited to local or region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nteracts with ships and principally provides TOS, NAS and IS.  It may also fulfil other functions as described in A 857(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introduction of A 857(20), the monitoring of, and interaction with, vessels has become a global activity (LRIT and 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efficiency considerations now necessitate pre-arrival information well before arrival in a VT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e organisations at local, regional and national level need to interact with vessels world w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89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obal Interaction with Vessel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32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no international organisation is co-ordinating or providing guidance on this global interaction with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hus a role to be filled in the context of vessel traffic, and at a level higher than traditional 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ight be provided b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ssel Traffic Management” (V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is as yet undefined formally.  One possible definition is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VTM is a collection of global activities supported by   information services which, improve the safety, security, efficiency and environmental protection of vessels and cargo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108000" y="-6336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-6336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45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258560" y="1844280"/>
            <a:ext cx="36036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1844280"/>
            <a:ext cx="43200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94920" y="5516640"/>
            <a:ext cx="289080" cy="360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5661000"/>
            <a:ext cx="215640" cy="216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26828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LA should structure its committees to provide guidance, where appropriate, on VTM 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is end, it is suggested that  the VTS Committee be re-named the VTM Committee and adjusts its work programm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TM and E-Nav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05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ole of the VTM committee would include the specification of VTM functional needs and the provision of VTM guidance and recommendatio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-Nav (and other committees such ANM) would provide technical guidance on how those functional needs are best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unctional needs could include shore-to-shore and  shore-to-ship information exchange.  It could also influence future ship-to-ship data exchang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661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149720"/>
            <a:ext cx="6553080" cy="15127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14972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 Na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harmonisation of the means for collecting, distributing and presenting information related to maritime safety, security, efficiency and environment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51640" y="1844280"/>
            <a:ext cx="43344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1916280"/>
            <a:ext cx="28728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5589720"/>
            <a:ext cx="215640" cy="215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5589720"/>
            <a:ext cx="216000" cy="287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38:29Z</dcterms:created>
  <dc:creator>BruceR</dc:creator>
  <dc:description/>
  <dc:language>en-US</dc:language>
  <cp:lastModifiedBy>BruceR</cp:lastModifiedBy>
  <dcterms:modified xsi:type="dcterms:W3CDTF">2006-09-14T12:19:06Z</dcterms:modified>
  <cp:revision>11</cp:revision>
  <dc:subject/>
  <dc:title>Slide 1</dc:title>
</cp:coreProperties>
</file>